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F431-460D-46C8-A062-5F66E6050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28600" y="41166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A611-0B7F-4A49-841C-D8B83E5BD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445640" y="1752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28600" y="4116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445640" y="4116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DC5D-B11C-4D7D-9590-AC65E1C79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011040" y="1752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793480" y="1752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228600" y="4116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011040" y="4116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793480" y="4116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1E67-2F7D-4358-9093-1F4BD80E8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2286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E514-7C7D-425D-B5AB-C2F12B6A6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A382-8352-4636-8992-E383C8F4A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45640" y="17524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FE25-A4FA-4390-90B0-596349072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225D-BFD0-46F3-8C10-7799F63AB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262D-8AA3-4106-8157-BFD9EF62C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445640" y="17524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116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DA63-D90B-4B0C-9B7C-14905BF4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445640" y="1752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445640" y="4116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CFCE-4E19-46D6-B893-CCB138F8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45640" y="1752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1166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A8DD-6FDB-4E7A-B4E3-82FEB28C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BCB60-63EC-430F-807E-E4F373FA20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6554880"/>
            <a:ext cx="9144000" cy="3045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-3240" y="6555240"/>
            <a:ext cx="26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olt McDougal Geome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0" y="0"/>
            <a:ext cx="9144000" cy="6862680"/>
            <a:chOff x="0" y="0"/>
            <a:chExt cx="9144000" cy="6862680"/>
          </a:xfrm>
        </p:grpSpPr>
        <p:pic>
          <p:nvPicPr>
            <p:cNvPr id="8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" descr=""/>
            <p:cNvPicPr/>
            <p:nvPr/>
          </p:nvPicPr>
          <p:blipFill>
            <a:blip r:embed="rId4"/>
            <a:stretch/>
          </p:blipFill>
          <p:spPr>
            <a:xfrm>
              <a:off x="4086360" y="6558120"/>
              <a:ext cx="5057640" cy="30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" name=""/>
          <p:cNvSpPr/>
          <p:nvPr/>
        </p:nvSpPr>
        <p:spPr>
          <a:xfrm>
            <a:off x="194400" y="8316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2-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1066680" y="-20520"/>
            <a:ext cx="80773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Biconditional State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nd Defin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03920" y="13716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2-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-6840"/>
            <a:ext cx="777240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Biconditional State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nd Defin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655308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olt Geome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3553200" y="241236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2" action="ppaction://hlinksldjump"/>
          </p:cNvPr>
          <p:cNvSpPr/>
          <p:nvPr/>
        </p:nvSpPr>
        <p:spPr>
          <a:xfrm>
            <a:off x="3616200" y="3021840"/>
            <a:ext cx="35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3" action="ppaction://hlinksldjump"/>
          </p:cNvPr>
          <p:cNvSpPr/>
          <p:nvPr/>
        </p:nvSpPr>
        <p:spPr>
          <a:xfrm>
            <a:off x="3584160" y="3631320"/>
            <a:ext cx="21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Qu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6534000"/>
            <a:ext cx="9144000" cy="324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6553080"/>
            <a:ext cx="26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olt McDougal Geome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1B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35305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two parts of the biconditional </a:t>
            </a:r>
            <a:r>
              <a:rPr b="1" i="1" lang="en-US" sz="2400" spc="-1" strike="noStrike">
                <a:solidFill>
                  <a:srgbClr val="0000ff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re </a:t>
            </a:r>
            <a:r>
              <a:rPr b="1" i="1" lang="en-US" sz="2400" spc="-1" strike="noStrike">
                <a:solidFill>
                  <a:srgbClr val="0000ff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i="1" lang="en-US" sz="2400" spc="-1" strike="noStrike">
                <a:solidFill>
                  <a:srgbClr val="ff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2400" spc="-1" strike="noStrike">
                <a:solidFill>
                  <a:srgbClr val="0000ff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43084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itional: 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If a solution is neutral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en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its pH is 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35200" y="5130720"/>
            <a:ext cx="75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verse: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If a solution’s pH is 7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n 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it is neut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5680" y="1676520"/>
            <a:ext cx="524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t </a:t>
            </a:r>
            <a:r>
              <a:rPr b="1" i="1" lang="en-US" sz="2400" spc="-1" strike="noStrike">
                <a:solidFill>
                  <a:srgbClr val="0000ff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i="1" lang="en-US" sz="2400" spc="-1" strike="noStrike">
                <a:solidFill>
                  <a:srgbClr val="ff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represent the follow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3040" y="2133720"/>
            <a:ext cx="366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: A solution is neut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97240" y="2590920"/>
            <a:ext cx="34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: A solution’s pH is 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1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5680" y="3276720"/>
            <a:ext cx="524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t </a:t>
            </a:r>
            <a:r>
              <a:rPr b="1" i="1" lang="en-US" sz="2400" spc="-1" strike="noStrike">
                <a:solidFill>
                  <a:srgbClr val="0000ff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i="1" lang="en-US" sz="2400" spc="-1" strike="noStrike">
                <a:solidFill>
                  <a:srgbClr val="ff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represent the follow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9640" y="3733920"/>
            <a:ext cx="319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: An angle is acu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41940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: An angle has a measure that is greater than 0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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and less than 90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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251460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 angle is acute iff its measure is greater than 0° and less than 90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161604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the conditional statement and converse within the bicondit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1a Continu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449424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itional: If 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an angle is acut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then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its measure is greater than 0° and less than 90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5680" y="1536840"/>
            <a:ext cx="524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t </a:t>
            </a:r>
            <a:r>
              <a:rPr b="1" i="1" lang="en-US" sz="2400" spc="-1" strike="noStrike">
                <a:solidFill>
                  <a:srgbClr val="0000ff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i="1" lang="en-US" sz="2400" spc="-1" strike="noStrike">
                <a:solidFill>
                  <a:srgbClr val="ff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represent the follow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9640" y="1981080"/>
            <a:ext cx="319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: An angle is acu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25146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: An angle has a measure that is greater than 0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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and less than 90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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35971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two parts of the biconditional </a:t>
            </a:r>
            <a:r>
              <a:rPr b="1" i="1" lang="en-US" sz="2400" spc="-1" strike="noStrike">
                <a:solidFill>
                  <a:srgbClr val="0000ff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re </a:t>
            </a:r>
            <a:r>
              <a:rPr b="1" i="1" lang="en-US" sz="2400" spc="-1" strike="noStrike">
                <a:solidFill>
                  <a:srgbClr val="0000ff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i="1" lang="en-US" sz="2400" spc="-1" strike="noStrike">
                <a:solidFill>
                  <a:srgbClr val="ff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2400" spc="-1" strike="noStrike">
                <a:solidFill>
                  <a:srgbClr val="0000ff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5349960"/>
            <a:ext cx="876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verse: If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an angle’s measure is greater than 0° and less than 90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then 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the angle is acu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1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222552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ho is a member if and only if he has paid the $5 d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137160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the conditional statement and converse within the bicondit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1440" y="5181120"/>
            <a:ext cx="784872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itional: If Cho is a member, then he has paid the $5 du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5680" y="3048120"/>
            <a:ext cx="524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t </a:t>
            </a:r>
            <a:r>
              <a:rPr b="1" i="1" lang="en-US" sz="2400" spc="-1" strike="noStrike">
                <a:solidFill>
                  <a:srgbClr val="0000ff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i="1" lang="en-US" sz="2400" spc="-1" strike="noStrike">
                <a:solidFill>
                  <a:srgbClr val="ff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represent the follow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3160" y="3505320"/>
            <a:ext cx="31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: Cho is a memb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39654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: Cho has paid his $5 d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2600" y="4479840"/>
            <a:ext cx="822960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two parts of the biconditional </a:t>
            </a:r>
            <a:r>
              <a:rPr b="1" i="1" lang="en-US" sz="2400" spc="-1" strike="noStrike">
                <a:solidFill>
                  <a:srgbClr val="0000ff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re </a:t>
            </a:r>
            <a:r>
              <a:rPr b="1" i="1" lang="en-US" sz="2400" spc="-1" strike="noStrike">
                <a:solidFill>
                  <a:srgbClr val="0000ff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i="1" lang="en-US" sz="2400" spc="-1" strike="noStrike">
                <a:solidFill>
                  <a:srgbClr val="ff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2400" spc="-1" strike="noStrike">
                <a:solidFill>
                  <a:srgbClr val="0000ff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71440" y="5896080"/>
            <a:ext cx="868680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verse: If Cho has paid the $5 dues, then he is a memb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04920" y="182880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r each conditional, write the converse and a biconditional stat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836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2: Identifying the Conditionals within a Biconditional 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268272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.  If 5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– 8 = 37, then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38080" y="312408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verse: If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9, then 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8 = 3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40338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. If two angles have the same measure, then they are congru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480060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verse: If two angles are congruent, then they have the same meas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5812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iconditional: 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8 = 37 if and only if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56545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iconditional: Two angles have the same measure if and only if they are congru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268272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f the date is July 4th, then it is Independence 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182880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r the conditional, write the converse and a biconditional stat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357984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verse: If it is Independence Day, then the date is July 4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04920" y="449568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iconditional: It is July 4th if and only if it is Independence 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182880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r the conditional, write the converse and a biconditional stat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74320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f points lie on the same line, then they are collin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367200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verse: If points are collinear, then they lie on the same li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464688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iconditional: Points lie on the same line if and only if they are collin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9480" y="1752480"/>
            <a:ext cx="8001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biconditional statement to be true, both the conditional statement and its converse must be true. If either the conditional or the converse is false, then the biconditional statement is fal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04920" y="182880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if the biconditional is true. If false, give a counterexa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836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A: Analyzing the Truth Value of a Biconditional 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26827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rectangle has side lengths of 12 cm and 25 cm if and only if its area is 300 c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836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A: Analyzing the Truth Value of a Biconditional 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198108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itional: If a rectangle has side lengths of 12 cm and 25 cm, then its area is 300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" y="335268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verse: If a rectangle’s area is 300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then it has side lengths of 12 cm and 25 c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19920" y="198108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The conditional 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018120" y="3368520"/>
            <a:ext cx="244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The converse is fal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04920" y="480060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a rectangle’s area is 300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it could have side lengths of 10 cm and 30 cm. Because the converse is false, the biconditional is fal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80880" y="838080"/>
            <a:ext cx="8534520" cy="548640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3680" indent="-463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a conditional statement from each of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llow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e intersection of two lines is a po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odd number is one more than a multiple of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Write the converse of the conditional “If Pedro lives in Chicago, then he lives in Illinois.” Find its truth va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286416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f two lines intersect, then they intersect in a po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374832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f a number is odd, then it is one more than a multiple of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43200" y="5492880"/>
            <a:ext cx="579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f Pedro lives in Illinois, then he lives in Chicago; Fal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04920" y="182880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if the biconditional is true. If false, give a counterexa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836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B: Analyzing the Truth Value of a Biconditional 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26827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natural number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is odd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Arial Unicode M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 is od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6360" y="327672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itional: If a natural number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odd, then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od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60840" y="3276720"/>
            <a:ext cx="307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The conditional 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04920" y="4191120"/>
            <a:ext cx="495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verse: If the squar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a natural number is odd, then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od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57400" y="4267080"/>
            <a:ext cx="292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The converse 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6360" y="5502240"/>
            <a:ext cx="611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nce the conditional and its converse are true, the biconditional 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3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245412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 angle is a right angle iff its measure is 90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152388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if the biconditional is true. If false, give a counterexa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6360" y="304812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itional: If an angle is a right angle, then its measure is 90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699160" y="3048120"/>
            <a:ext cx="307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The conditional 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3962520"/>
            <a:ext cx="495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verse: If the measure of an angle is 90°, then it is a right ang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895360" y="4038480"/>
            <a:ext cx="292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The converse 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6360" y="5273640"/>
            <a:ext cx="611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nce the conditional and its converse are true, the biconditional 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3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04920" y="268272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–5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y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Arial Unicode M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 = 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04920" y="175248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if the biconditional is true. If false, give a counterexa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6360" y="3276720"/>
            <a:ext cx="457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itional: If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–5, then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 Unicode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 = 2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699160" y="3276720"/>
            <a:ext cx="307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The conditional 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4920" y="4191120"/>
            <a:ext cx="495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verse: If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  <a:ea typeface="Arial Unicode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 = 25, th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 = –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898600" y="4267080"/>
            <a:ext cx="300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The converse is fal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5273640"/>
            <a:ext cx="611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onverse is false when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5. Thus, the biconditional is fal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57200" y="187632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geometry, biconditional statements are used to writ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definition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338472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defini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a statement that describes a mathematical object and can be written as a true bicondit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533520" y="129528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he glossary, 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lyg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defined as a closed plane figure formed by three or more line seg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88920" y="2971800"/>
            <a:ext cx="891540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533520" y="137160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riangl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defined as a three-sided polygon, and 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drilatera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a four-sided polyg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066680" y="2819520"/>
            <a:ext cx="634392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380880" y="2438280"/>
            <a:ext cx="7854840" cy="1287720"/>
            <a:chOff x="380880" y="2438280"/>
            <a:chExt cx="7854840" cy="1287720"/>
          </a:xfrm>
        </p:grpSpPr>
        <p:sp>
          <p:nvSpPr>
            <p:cNvPr id="183" name=""/>
            <p:cNvSpPr/>
            <p:nvPr/>
          </p:nvSpPr>
          <p:spPr>
            <a:xfrm>
              <a:off x="387000" y="2900520"/>
              <a:ext cx="7848720" cy="825480"/>
            </a:xfrm>
            <a:prstGeom prst="rect">
              <a:avLst/>
            </a:pr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hink of definitions as being reversible. Postulates, however are not necessarily true when reversed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80880" y="2438280"/>
              <a:ext cx="2743200" cy="4597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Helpful Hi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04920" y="182880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each definition as a bicondit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10195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4: Writing Definitions as Biconditional Stat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04920" y="2682720"/>
            <a:ext cx="845820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. A pentagon is a five-sided polyg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. A right angle measures 90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04920" y="329112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figure is a pentagon if and only if it is a 5-sided polyg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84840" y="5029200"/>
            <a:ext cx="745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ngle is a right angle if and only if it measures 9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04920" y="2682720"/>
            <a:ext cx="83055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a. A quadrilateral is a four-sided polyg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b. The measure of a straight angle is 180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04920" y="182880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each definition as a bicondit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990720" y="319896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figure is a quadrilateral if and only if it is a 4-sided polyg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990720" y="479916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a straigh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f and only if its measure is 180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52280" y="1436040"/>
            <a:ext cx="7925040" cy="34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or the conditional “If an angle is right, then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s measure is 90°,” write the converse and a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iconditional statement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etermine if the biconditional “Two angles ar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lementary if and only if they are both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ute” is true. If false, give a counterexa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439776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False; possible answer: 30° and 4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76360" y="25290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verse: If an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measures 90°, then the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is righ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iconditional: An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is right iff its measure is 90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52280" y="479556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Write the definition “An acute triangle is a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iangle with three acute angles” as a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icondit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09480" y="59425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A triangle is acute iff it has 3 acute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80880" y="1905120"/>
            <a:ext cx="8382240" cy="114300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and analyze biconditional statement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219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6600"/>
                </a:solidFill>
                <a:latin typeface="Arial Black"/>
              </a:rPr>
              <a:t>Objec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80880" y="1981080"/>
            <a:ext cx="8382240" cy="312444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iconditional sta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yg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ian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drilat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295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 Black"/>
              </a:rPr>
              <a:t>Vocabul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80880" y="16765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you combine a conditional statement and its converse, you create a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iconditional statemen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342900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iconditional statemen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a statement that can be written in the form “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f and only if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” This means “if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then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” and “if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then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1523880" y="1905120"/>
            <a:ext cx="8001000" cy="459720"/>
            <a:chOff x="1523880" y="1905120"/>
            <a:chExt cx="8001000" cy="459720"/>
          </a:xfrm>
        </p:grpSpPr>
        <p:sp>
          <p:nvSpPr>
            <p:cNvPr id="68" name=""/>
            <p:cNvSpPr/>
            <p:nvPr/>
          </p:nvSpPr>
          <p:spPr>
            <a:xfrm>
              <a:off x="1523880" y="1905120"/>
              <a:ext cx="800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Verdana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    </a:t>
              </a:r>
              <a:r>
                <a:rPr b="1" i="1" lang="en-US" sz="2400" spc="-1" strike="noStrike">
                  <a:solidFill>
                    <a:srgbClr val="006699"/>
                  </a:solidFill>
                  <a:latin typeface="Verdana"/>
                </a:rPr>
                <a:t>q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means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Verdana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  </a:t>
              </a:r>
              <a:r>
                <a:rPr b="1" i="1" lang="en-US" sz="2400" spc="-1" strike="noStrike">
                  <a:solidFill>
                    <a:srgbClr val="006699"/>
                  </a:solidFill>
                  <a:latin typeface="Verdana"/>
                </a:rPr>
                <a:t>q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and </a:t>
              </a:r>
              <a:r>
                <a:rPr b="1" i="1" lang="en-US" sz="2400" spc="-1" strike="noStrike">
                  <a:solidFill>
                    <a:srgbClr val="006699"/>
                  </a:solidFill>
                  <a:latin typeface="Verdana"/>
                </a:rPr>
                <a:t>q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   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Verdana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904760" y="2171880"/>
              <a:ext cx="533520" cy="0"/>
            </a:xfrm>
            <a:prstGeom prst="line">
              <a:avLst/>
            </a:prstGeom>
            <a:ln w="57240">
              <a:solidFill>
                <a:srgbClr val="99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406760" y="2171880"/>
              <a:ext cx="533520" cy="0"/>
            </a:xfrm>
            <a:prstGeom prst="line">
              <a:avLst/>
            </a:prstGeom>
            <a:ln w="5724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324480" y="2159280"/>
              <a:ext cx="533520" cy="0"/>
            </a:xfrm>
            <a:prstGeom prst="line">
              <a:avLst/>
            </a:prstGeom>
            <a:ln w="5724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547560" y="3047040"/>
            <a:ext cx="7848720" cy="1283760"/>
            <a:chOff x="547560" y="3047040"/>
            <a:chExt cx="7848720" cy="1283760"/>
          </a:xfrm>
        </p:grpSpPr>
        <p:sp>
          <p:nvSpPr>
            <p:cNvPr id="73" name=""/>
            <p:cNvSpPr/>
            <p:nvPr/>
          </p:nvSpPr>
          <p:spPr>
            <a:xfrm>
              <a:off x="547560" y="3505320"/>
              <a:ext cx="7848720" cy="825480"/>
            </a:xfrm>
            <a:prstGeom prst="rect">
              <a:avLst/>
            </a:pr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he biconditional “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if and only i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q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” can also be written as “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if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q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” 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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q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33600" y="3047040"/>
              <a:ext cx="2209320" cy="4597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Writing Ma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04920" y="182880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the conditional statement and converse within the bicondit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836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1A: Identifying the Conditionals within a Biconditional 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26827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 angle is obtuse if and only if its measure is greater than 90° and less than 180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26320" y="3581280"/>
            <a:ext cx="52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t </a:t>
            </a:r>
            <a:r>
              <a:rPr b="1" i="1" lang="en-US" sz="2400" spc="-1" strike="noStrike">
                <a:solidFill>
                  <a:srgbClr val="0000ff"/>
                </a:solidFill>
                <a:latin typeface="Verdan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i="1" lang="en-US" sz="2400" spc="-1" strike="noStrike">
                <a:solidFill>
                  <a:srgbClr val="ff0000"/>
                </a:solidFill>
                <a:latin typeface="Verdan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represent the follow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68080" y="4038480"/>
            <a:ext cx="34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Verdana"/>
              </a:rPr>
              <a:t>p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: An angle is obt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443556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Verdana"/>
              </a:rPr>
              <a:t>q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: An angle’s measure is greater than 90° and less than 180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1A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6200" y="3505320"/>
            <a:ext cx="823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two parts of the biconditional </a:t>
            </a:r>
            <a:r>
              <a:rPr b="1" i="1" lang="en-US" sz="2400" spc="-1" strike="noStrike">
                <a:solidFill>
                  <a:srgbClr val="0000ff"/>
                </a:solidFill>
                <a:latin typeface="Verdan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Verdan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re </a:t>
            </a:r>
            <a:r>
              <a:rPr b="1" i="1" lang="en-US" sz="2400" spc="-1" strike="noStrike">
                <a:solidFill>
                  <a:srgbClr val="0000ff"/>
                </a:solidFill>
                <a:latin typeface="Verdan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Verdan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i="1" lang="en-US" sz="2400" spc="-1" strike="noStrike">
                <a:solidFill>
                  <a:srgbClr val="ff0000"/>
                </a:solidFill>
                <a:latin typeface="Verdan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2400" spc="-1" strike="noStrike">
                <a:solidFill>
                  <a:srgbClr val="0000ff"/>
                </a:solidFill>
                <a:latin typeface="Verdan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4282920"/>
            <a:ext cx="936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itional: 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If an 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 is obtuse,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n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its measure is greater than 90° and less than 180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5181480"/>
            <a:ext cx="811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verse: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If an angle's measure is greater than 90° and less than 180°,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n 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it is obtuse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3200" y="1523880"/>
            <a:ext cx="52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t </a:t>
            </a:r>
            <a:r>
              <a:rPr b="1" i="1" lang="en-US" sz="2400" spc="-1" strike="noStrike">
                <a:solidFill>
                  <a:srgbClr val="0000ff"/>
                </a:solidFill>
                <a:latin typeface="Verdan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i="1" lang="en-US" sz="2400" spc="-1" strike="noStrike">
                <a:solidFill>
                  <a:srgbClr val="ff0000"/>
                </a:solidFill>
                <a:latin typeface="Verdan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represent the follow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24960" y="2057400"/>
            <a:ext cx="34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Verdana"/>
              </a:rPr>
              <a:t>p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: An angle is obt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25146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Verdana"/>
              </a:rPr>
              <a:t>q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: An angle’s measure is greater than 90° and less than 180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04920" y="182880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the conditional statement and converse within the bicondit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836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1B: Identifying the Conditionals within a Biconditional 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26827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solution is neutral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its pH is 7.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5680" y="3276720"/>
            <a:ext cx="524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t </a:t>
            </a:r>
            <a:r>
              <a:rPr b="1" i="1" lang="en-US" sz="2400" spc="-1" strike="noStrike">
                <a:solidFill>
                  <a:srgbClr val="0000ff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i="1" lang="en-US" sz="2400" spc="-1" strike="noStrike">
                <a:solidFill>
                  <a:srgbClr val="ff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represent the follow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63040" y="3733920"/>
            <a:ext cx="366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: A solution is neut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97240" y="4191120"/>
            <a:ext cx="34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: A solution’s pH is 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18:20:28Z</dcterms:created>
  <dc:creator>HRW</dc:creator>
  <dc:description/>
  <dc:language>en-US</dc:language>
  <cp:lastModifiedBy>jayabalaji.b</cp:lastModifiedBy>
  <dcterms:modified xsi:type="dcterms:W3CDTF">2010-03-22T06:52:53Z</dcterms:modified>
  <cp:revision>91</cp:revision>
  <dc:subject/>
  <dc:title>Slide 1</dc:title>
</cp:coreProperties>
</file>